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2A74-05A2-4541-9EA0-B2DE3727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05C6-036D-42F0-B1D6-99E2A5E1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AAE41-2BF0-45DB-A9B5-7F374DC8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4B354-7B7A-41FB-98D3-B5D62041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BD81E-6F6F-4E44-923D-5D26A4C3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FF250-C4DC-4AA3-AC54-9238B590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24CD8-C2EB-4CD7-98AE-1171E114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7869B-D8BC-4EBD-90D8-354BEEC8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87E6F-7166-429E-B0D2-BF23E2FE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D0DFC-31DD-47E9-B9A3-E0C07D89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12F33-1B4F-46AD-86B3-B398740D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65EF7-B44F-4AA7-BDEA-E3F14761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BDA-205A-40AD-A471-14DBF502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983F2-D5AE-4F54-A76E-97E9A2C3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6C468-1116-4789-84AF-F4110874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8B52F-D264-4A45-8C54-2FAC7495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EA49E-7929-4A18-B345-00AF5AC2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205A1-B6CB-4989-BF22-F8DB1B9D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5BC95-C4C3-4718-8E85-B4C7B7DF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0E6D9-371C-40DE-95F1-769C90E0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0269B-39CD-4615-ABBD-CA362A23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E0E66-B686-4111-A4B5-F3617EC4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5C063-C3AA-4479-871C-22F01236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7FBC-4955-41FB-B466-6DB14B7F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1975F-28F3-494A-ADBE-E594BD3A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40D5A-05A6-4B7D-AFB7-2A488913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B5CDC-1AC8-4119-AB2D-B5A4C943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E8EF3-EE16-4F5F-8E45-B94648A7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4235D-BA60-474F-8544-F5DE09FE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5D50B-9AB9-43C8-BB93-8C8E8D7A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B97F4-81F2-45F6-976C-47FD8744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7B817-0C32-4696-BEEB-EF7F9D69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E4BDD-B8AF-4456-B31D-0FB7C1A6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352B2-0324-4DA0-A9A4-E14B4E2F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C0AA-2618-4C4D-A67C-64FF207D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42DB7-7E76-4373-A6CE-C52B598C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35EAC-7A9E-42C0-A18A-5B94D7DB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9F71B-5EC9-4A05-BF49-D49A6A8E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761D8-7B7C-4414-83BB-076B0407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B2FC9-988F-4527-8A36-E60F255B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FB038-F9E5-4EFD-8CAA-54571E30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B2543-1159-4B5A-B094-A45104FD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A8854-35D7-4AC3-B1D9-593C6A0A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A8C83-7F15-413F-9BBA-44C20222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17EC5-24CA-4638-BFF4-290E0FF2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B78D-5192-4525-9AB9-02CA7EE9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80726-45CC-4D5A-AFC1-81A2021C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7CB35-A90F-42AF-BB7A-86BADDB2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A2A37-028E-479B-92FC-1921CBC1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1562E-3FF3-466D-BAFD-10A5DC53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C4DC7-FFA8-48CF-8239-D4B19423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5912F1-4BA5-44DD-BF19-D883FD14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64531D-3A18-443D-98A9-BBAEABFA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E572D8-6418-47C3-8E49-8D05BA36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0321A4-7DDF-4A49-A9F1-9EF25006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5212C0-2D51-486A-967A-D737B74D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F29A-4982-4CFC-839E-BBB7B28B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2BD52-191B-4731-91E3-FA01BB7E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3E3A45-2B4B-4C53-8B7F-798B1E07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63772-6214-4346-A439-42DE2942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5AF28D-3913-4220-BD6B-FBA70777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9E490-3321-4F59-990A-E53C9923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CCA6C-5FD3-4AD6-8317-1DB93DFA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3667B-DFA0-4472-B94D-561DB5DB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4197-BEAD-4836-B92F-BDAA5E36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E9A4-7C1D-453F-84AF-F09FD265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D41B-D87E-4E2A-BE04-FD7F793A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A85D-5526-41BD-A5DC-D250EC66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2369-ABB7-4CEE-9F97-1D1B7A45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C295-C5BE-41A8-A691-AC4807F1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46D6-4185-4685-854A-547F08FE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0924-8EAF-4AFE-A741-F8CA3270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CB73-CFA2-43F9-BAF0-C30C4B1C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42C0-DF15-456B-8B65-4C5AB2FB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C871A-2D37-4145-AECA-E93292E5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6AF23-D3A8-4A16-ACC7-2763FDBF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CB4BC-153B-4CC6-9E0E-EFD78450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D0A89-D6A5-4D6E-866B-4F581C41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27B6A-80D2-4002-A8E0-9D68B76F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3165-B8EB-4B38-B7F0-A1B463DB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9415A-E0F6-4C83-864C-DF5A7AB7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BC267-02BA-4BA1-B63F-00606D8B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5036E-23FE-49A7-B10D-FF897568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BF619-8284-4CE7-9A45-93E85E3E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5C6AC-D727-4D91-B104-DFAD94BA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0E362-4526-4D49-BD2B-07822479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F8DBD-4D4E-4565-A2E3-D60C8C0A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66848-6D17-490D-83FB-ABC7A040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37A4D-9863-47DE-AE5C-2D235CE5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F36A5-C630-4A8F-B2C5-7D8083F0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9E0-04B0-413E-9B67-CDF8247F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03A0D-1CD6-41E5-8650-DA0FA810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B9070-989E-4858-B215-1B9B165C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4DCFF-7A5D-477A-956F-8DA64D5C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08F2F-5C79-4CEA-84E8-20A66D8C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9B907-2C91-473C-8A90-C9E78734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29A01-52AC-4AB3-9F43-7250E6CC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FBD7E-8C88-4C5C-8F42-C9C024AA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0675C-F54F-4B62-8877-BCD63879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3239C-691E-4465-8610-08A584AA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E778B-E392-426F-9B15-E62D9F5B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1C54-67D8-43CD-914B-C0470021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93A1D-E896-4A6F-8A5D-E2568882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66968-3351-43D7-9ACF-B4E466AC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8B6DB-0B95-48DE-B2BD-EDA8C70A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23CE7-5B62-42CA-94A2-74A7288B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1100C-95D2-4B5E-B9DC-694FE145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3421B-9A51-4D39-8E47-EC0AB5D8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834E8-3D73-4D00-B8E8-7F47A4CA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EB188-0249-4C5E-A0FD-9259FB10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B4FD9-1F7B-4C61-A282-7D55AEF5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5C383-CE60-46A2-A69C-F65EF9AF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8D3-002D-4D62-8A8F-D3B852F6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2048D-164E-43D6-8680-8F7CC72F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33F7E-7BE3-435B-AAD3-7140C982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ECE78-F875-46F6-AAB2-6EB62364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66F63-D7C8-4F67-B5B5-2DED854C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51DC6-9CA1-4FF9-8AD5-F1612013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17CAA-4860-4DF5-8B3D-EEBF066C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2B2B2-71C3-456F-98EB-BE95755B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10092-6CA8-43C2-A91E-5D78DD63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7C130-4BB6-4E10-85DE-AEEEFE87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1F5B6-273E-4364-92FE-09B7317B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C712-0B94-45F4-9783-835EA1CE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B1A5B-A2A2-49D1-B02F-6E08246A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7E381-2BED-4530-832C-796A8FC5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2AEC0-AC8E-47C0-A40C-977BC5CB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33095-9E1A-40AF-8C04-68099668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0FB55-C9F1-4039-8D80-948C97F1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D63F7-8401-475E-8D29-5CF5E175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21C3D-6957-417E-89B9-8B441ED3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E1A4B-92A4-443D-BF01-BAA42615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38249-56D0-457D-BC7D-3838CF8B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DE9EB-838C-4B84-AB34-CA636FFD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6433-FE38-4BFB-B69A-DE6A83B9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FADB7-F939-4894-816E-C4B5E8D2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1C97F-E3CE-4CFB-AA3B-E7831C87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3AEE4-359E-41BB-B0C4-67C3DCD1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1D7E1-8C8A-4ECD-99FC-D9770858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60737-F676-4EAE-8ECA-85F53D88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C5EE1-D6FF-4403-930C-FD8BC987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3929E-641D-4CCB-8544-8C74FAB8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08B1A-0ACE-4276-BE8E-5F23B0B7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C679C-7F6D-463F-B71A-97972201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3D342-04D6-41F0-9901-B041FCC6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7E5F-B899-4E54-8725-4941E88F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4142B-F30A-43BB-9F93-8DEB9CFA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9D1A7-DCE2-424E-A056-F9028B7E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E1094-33B9-40FC-B60E-D4CF9819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C44EB-5DD1-48C5-B2EF-4126621D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76368-FF59-47C9-9F3C-F0A82BD2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47F0B-0D03-42FB-AC89-20D09A90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487FC-65C0-4396-A8AE-44249EF3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08C60-D486-45B7-87A9-CAD51717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4FB7F-51AF-4897-9212-9D2A7FA6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93A31-4148-44AA-9A15-73DBCC38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993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993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993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3" name="椭圆 3994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" name="椭圆 3994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" name="椭圆 3994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6" name="椭圆 3994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DD7F-4296-4158-B798-2AE8F811C13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1926-6B6D-4428-8266-3702C88C3B3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F2F9-2050-4E71-910B-0270AC9353D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E336-BA7E-4B38-BF72-82CCF107F2B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4B31-4738-4809-823B-3CE3FEB564C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096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4096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0" name="椭圆 4096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1" name="椭圆 4096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2" name="椭圆 4096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3" name="椭圆 4096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4" name="椭圆 4096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C562-8755-4284-9E20-B442395BBDD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8C23-59BF-45A0-92AE-C6037AEA915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024D-0F59-4B8C-BC48-FE69EC8C007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05F2-4350-4B00-977D-460D1CD71A9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B1D7-DA61-42A7-8D1A-C7C000B0AF7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98AE-78BB-45F4-A2D9-80B0189DF31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361B-D325-4A4B-8D44-327C63FFDBF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FD36-D6D5-427D-8819-BA3D0EC5060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图片 5124" descr="呼唤星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行楷"/>
              </a:rPr>
              <a:t>第二次：三年前在南京读书时看繁星的情景和感受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星光在我们的肉眼里虽然微小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好像它们就是我的朋友，它们常常在和我谈话一样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这几句表达了作者与星星亲密、投机的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伙伴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之情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。也表现了作者对光明的追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行楷"/>
              </a:rPr>
              <a:t>第三次：如今在海上望星星的感受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0" y="2176560"/>
            <a:ext cx="89265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我望着那许多认识的星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我仿佛看见它们在对我霎眼，我仿佛听见它们在小声说话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现在睡在母亲的怀里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这里写出了无比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惬意、信赖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与星星的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知心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之情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从中我们可以感悟到作者的童心、童趣以及对大自然的热爱、对美好生活的向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Arial"/>
              </a:rPr>
              <a:t>三次看星感受不同的原因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96720" y="494172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随着作者年龄和生活阅历的增长，对星空的观察和感知也在逐步加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16387"/>
          <p:cNvSpPr/>
          <p:nvPr/>
        </p:nvSpPr>
        <p:spPr>
          <a:xfrm>
            <a:off x="900000" y="1268280"/>
            <a:ext cx="7561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从前在家乡－－作者还是一个儿童。对母亲极为依恋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6" name="文本框 16388"/>
          <p:cNvSpPr/>
          <p:nvPr/>
        </p:nvSpPr>
        <p:spPr>
          <a:xfrm>
            <a:off x="828720" y="2421000"/>
            <a:ext cx="7632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年前在南京－－作者当时十九岁，远离家乡，异地求学，渴望志同道合的朋友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7" name="文本框 16389"/>
          <p:cNvSpPr/>
          <p:nvPr/>
        </p:nvSpPr>
        <p:spPr>
          <a:xfrm>
            <a:off x="900000" y="3573360"/>
            <a:ext cx="6913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今在海上－－作者是在去法国求学的途中，远离家乡，远离祖国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Arial"/>
              </a:rPr>
              <a:t>我们一起来解决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6932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同学们还有哪些问题没有解决？提出来大家共同探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本节课我收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最大的是什么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巩固新知，当堂训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79898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繁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作者是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--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原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字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现代著名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-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----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他的作品主要有“爱情三部曲”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---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；“激流三部曲”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-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繁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他的一篇游记，从文学角度讲，体裁属于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----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将下列词语中的错别字改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半明半没    摇摇欲堕  星群密部  眼睛漠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背诵课文第三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课外作业，拓展延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繁星是常见的，而在作家的笔下却写得那么动人。假如让你以“繁星”为题作文，你将写些什么，怎样写呢？请同学们动手写一写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97964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0" lang="zh-CN" sz="8400" spc="-1" strike="noStrike">
                <a:solidFill>
                  <a:srgbClr val="ff3300"/>
                </a:solidFill>
                <a:latin typeface="Arial"/>
              </a:rPr>
              <a:t>繁   星</a:t>
            </a:r>
            <a:r>
              <a:rPr b="0" lang="en-US" sz="8400" spc="-1" strike="noStrike">
                <a:solidFill>
                  <a:srgbClr val="ff3300"/>
                </a:solidFill>
                <a:latin typeface="Arial"/>
              </a:rPr>
              <a:t>》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700360" y="306864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 u="sng">
                <a:solidFill>
                  <a:srgbClr val="0000ff"/>
                </a:solidFill>
                <a:uFillTx/>
                <a:latin typeface="Arial"/>
              </a:rPr>
              <a:t>第二课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阅读理解重点段落。继续学习排比、比喻等修辞手法的运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体会作者酷爱星天的深切感受，培养热爱大自然的思想感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合作探究，解决疑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64720" y="2637000"/>
            <a:ext cx="827892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仰   望  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&gt;  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欲   睡  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&gt;  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沉  睡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—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句）     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—8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句）  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—1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句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23555"/>
          <p:cNvSpPr/>
          <p:nvPr/>
        </p:nvSpPr>
        <p:spPr>
          <a:xfrm>
            <a:off x="1187280" y="162864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理清第三段写作思路：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矩形 6145"/>
          <p:cNvSpPr/>
          <p:nvPr/>
        </p:nvSpPr>
        <p:spPr>
          <a:xfrm>
            <a:off x="2895480" y="396252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巴  金</a:t>
            </a:r>
            <a:endParaRPr b="0" lang="en-US" sz="6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51" name="矩形 6146"/>
          <p:cNvSpPr txBox="1"/>
          <p:nvPr/>
        </p:nvSpPr>
        <p:spPr>
          <a:xfrm>
            <a:off x="2057400" y="1295280"/>
            <a:ext cx="45720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cap="sq" w="12600">
                  <a:solidFill>
                    <a:srgbClr val="b2b2b2"/>
                  </a:solidFill>
                  <a:round/>
                </a:ln>
                <a:solidFill>
                  <a:srgbClr val="6767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繁   星</a:t>
            </a:r>
            <a:endParaRPr b="0" lang="en-US" sz="9600" spc="1" strike="noStrike">
              <a:ln cap="sq" w="12600">
                <a:solidFill>
                  <a:srgbClr val="b2b2b2"/>
                </a:solidFill>
                <a:round/>
              </a:ln>
              <a:solidFill>
                <a:srgbClr val="6767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、“渐渐地我的眼睛模糊了，我好像看见无数萤火虫在我的周围飞舞。”繁星与萤火虫有哪些相似点？这表明了繁星是怎样的情状？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24578"/>
          <p:cNvSpPr/>
          <p:nvPr/>
        </p:nvSpPr>
        <p:spPr>
          <a:xfrm>
            <a:off x="611280" y="1268280"/>
            <a:ext cx="74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　    “繁星”和“萤火虫”都在夜间能看见，都有光亮，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情状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摇摇欲坠、闪烁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把繁星比作“无数萤火虫在我的周围飞舞”，十分生动形象，富有情趣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、“在星的怀抱中我微笑着，我沉睡着。我觉得自己是一个孩子，现在睡在母亲的怀里了。”“我”既然“沉睡着”，怎么又“觉得”？这样写矛盾吗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矛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自己已经不是小孩子了，只是感觉上仿佛回到了童年，所以用“觉得”二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、“看，那个巨人还在跑呢！”你是怎样理解这句话的？“那个巨人”指的是什么？</a:t>
            </a:r>
            <a:br>
              <a:rPr sz="34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一个“看”字，呼唤读者，感情上与读者直接交流，更能引起注意。       一个“呢”字，表示动作正在继续，显得更加生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  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那个巨人”指状如巨人的星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Arial"/>
                <a:ea typeface="黑体"/>
              </a:rPr>
              <a:t>二、作者把星天比作母亲，把星星比作朋友，并和它们说话，运用了哪些修辞手法？表达了一种什么样的感情？</a:t>
            </a:r>
            <a:br>
              <a:rPr sz="34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运用了比喻、拟人，使文章生动、形象的表达情感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作者把星天比作母亲，是为了突出他看繁星时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温馨甜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感受；把星天比作朋友，是为了突出作者看繁星时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亲密和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感受，它们表达了作者对大自然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热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情，对美好生活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向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童心、童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减。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684000" y="1700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   “渐渐地我的眼睛模糊了，我好像看见无数萤火虫在我的周围飞舞。”（比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楷体_GB2312"/>
              </a:rPr>
              <a:t>　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将“我”的眼睛模糊时所见的无数星星摇摇欲坠的情态，比作“无数萤火虫在我的周围飞舞”，十分生动形象，富有情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28674"/>
          <p:cNvSpPr/>
          <p:nvPr/>
        </p:nvSpPr>
        <p:spPr>
          <a:xfrm>
            <a:off x="1692360" y="33336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划出文中的比喻、拟人、排比的语句，简单赏析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>
                <a:solidFill>
                  <a:srgbClr val="ff3300"/>
                </a:solidFill>
                <a:latin typeface="Arial"/>
                <a:ea typeface="华文行楷"/>
              </a:rPr>
              <a:t>拟　人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55280" y="11966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  “我望着那许多认识的星，我仿佛看见它们在对我霎眼，我仿佛听见它们在小声说话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在作者眼里，天上的那许多认识的星星都有眼睛、有嘴巴、有思想，它们走近“我”，同“我”交谈。这样写，将“我”与大自然融为一体，使人如临其境，如闻其声，产生无穷的遐想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>
                <a:solidFill>
                  <a:srgbClr val="ff3300"/>
                </a:solidFill>
                <a:latin typeface="Arial"/>
                <a:ea typeface="华文行楷"/>
              </a:rPr>
              <a:t>排　比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4000" y="11253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     “海上的夜是柔和的，是静寂的，是梦幻的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　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依次从触觉、听觉和幻觉的角度描写海上之夜令“我”产生的种种美感。由表及里，使读者受到强烈的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Arial"/>
              </a:rPr>
              <a:t>我们一起来解决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60320" y="1609560"/>
            <a:ext cx="769320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同学们还有哪些问题没有解决？提出来大家共同探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3716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本节课我收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最大的是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100" spc="-1" strike="noStrike">
                <a:solidFill>
                  <a:srgbClr val="0000ff"/>
                </a:solidFill>
                <a:latin typeface="Arial"/>
              </a:rPr>
              <a:t>、作者把星星、星空写得仿佛有生命似的，把这样的句子画出来，大声朗读，再想想为什么在作者心目中星星、星空会变得像有生命似的？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436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热爱星空，热爱大自然、在他的心目中，繁星是母亲，是朋友，繁星象征着光明，在星空下，他感觉温馨、亲切、甜蜜、惬意、所以星星、星空会变得像有生命似的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33795"/>
          <p:cNvSpPr/>
          <p:nvPr/>
        </p:nvSpPr>
        <p:spPr>
          <a:xfrm>
            <a:off x="3276720" y="5651640"/>
            <a:ext cx="21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34" name="矩形 33796"/>
          <p:cNvSpPr/>
          <p:nvPr/>
        </p:nvSpPr>
        <p:spPr>
          <a:xfrm>
            <a:off x="539640" y="18900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课堂练习</a:t>
            </a:r>
            <a:br>
              <a:rPr sz="3200"/>
            </a:b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907640" y="333360"/>
            <a:ext cx="4743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 u="sng">
                <a:solidFill>
                  <a:srgbClr val="ff3300"/>
                </a:solidFill>
                <a:uFillTx/>
                <a:latin typeface="Arial"/>
              </a:rPr>
              <a:t>走近作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黑体"/>
              </a:rPr>
              <a:t>巴金（</a:t>
            </a:r>
            <a:r>
              <a:rPr b="1" lang="en-US" sz="2800" spc="-1" strike="noStrike">
                <a:solidFill>
                  <a:srgbClr val="d9d8ec"/>
                </a:solidFill>
                <a:latin typeface="Arial"/>
                <a:ea typeface="黑体"/>
              </a:rPr>
              <a:t>1904—2005</a:t>
            </a: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代著名作家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说家、散文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杰出的语言大师，原名李尧棠，字芾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作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长篇小说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爱情三部曲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雨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激流三部曲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春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篇小说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憩园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寒夜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散文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保卫和平的人们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友谊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随想录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散文、小说、特写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新声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赞歌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还有不少短篇小说、童话、杂文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文本框 34817"/>
          <p:cNvSpPr/>
          <p:nvPr/>
        </p:nvSpPr>
        <p:spPr>
          <a:xfrm>
            <a:off x="6084720" y="76500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7272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星光在我们的肉眼里虽然微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而它使我们觉得光明无处不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星光微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却觉得光明无处不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34819"/>
          <p:cNvSpPr/>
          <p:nvPr/>
        </p:nvSpPr>
        <p:spPr>
          <a:xfrm>
            <a:off x="250920" y="2781360"/>
            <a:ext cx="68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38" name="文本框 34820"/>
          <p:cNvSpPr/>
          <p:nvPr/>
        </p:nvSpPr>
        <p:spPr>
          <a:xfrm>
            <a:off x="1116000" y="2565360"/>
            <a:ext cx="6012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因为作者当时很年轻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充满幻想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充满朝气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所以他在微小的星光中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觉得光明无处不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图片 35841" descr="200992816592555"/>
          <p:cNvPicPr/>
          <p:nvPr/>
        </p:nvPicPr>
        <p:blipFill>
          <a:blip r:embed="rId1"/>
          <a:stretch/>
        </p:blipFill>
        <p:spPr>
          <a:xfrm>
            <a:off x="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40" name="文本框 35842"/>
          <p:cNvSpPr/>
          <p:nvPr/>
        </p:nvSpPr>
        <p:spPr>
          <a:xfrm>
            <a:off x="900000" y="2205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作者重点描写的是第三次看繁星，那前两次的描写有什么作用？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41" name="文本框 35843"/>
          <p:cNvSpPr/>
          <p:nvPr/>
        </p:nvSpPr>
        <p:spPr>
          <a:xfrm>
            <a:off x="1116000" y="3500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前两次描写起铺垫作用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通过与前两次的对比，更能表达作者现在的感情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五、课外作业，拓展延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巴金读过不少文学方面的书，认得一些星星，那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代初的事了。当今，人们对宇宙星空的探索不断深入。找有关的科技书或报刊读一读，约几个好朋友，晚上去观察星星，写写自己的体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Arial"/>
              </a:rPr>
              <a:t>写作背景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92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岁的巴金到了上海、南京，学习期间参加了一些社会活动，他的民主思想得到进一步发展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92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，他乘法国邮船“昂热”号离沪赴法，在邮船航行期间，巴金撰写了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海行杂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8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则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繁星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是其中的一篇游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文本框 9217"/>
          <p:cNvSpPr/>
          <p:nvPr/>
        </p:nvSpPr>
        <p:spPr>
          <a:xfrm>
            <a:off x="457200" y="45720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学习目标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57" name="文本框 9218"/>
          <p:cNvSpPr/>
          <p:nvPr/>
        </p:nvSpPr>
        <p:spPr>
          <a:xfrm>
            <a:off x="250920" y="1413000"/>
            <a:ext cx="53337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树立热爱大自然的思想，学会观察大自然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并运用联想和想像来写景状物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并运用比喻、拟人、排比等修辞手法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558" name="图片 9219" descr="童趣图"/>
          <p:cNvPicPr/>
          <p:nvPr/>
        </p:nvPicPr>
        <p:blipFill>
          <a:blip r:embed="rId1"/>
          <a:stretch/>
        </p:blipFill>
        <p:spPr>
          <a:xfrm>
            <a:off x="3581280" y="2590920"/>
            <a:ext cx="55627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预习反馈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给划线字注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9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半明半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昧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      )      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眼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       )     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糊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      )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纳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      )    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摇摇欲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       )    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静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       )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10243"/>
          <p:cNvSpPr/>
          <p:nvPr/>
        </p:nvSpPr>
        <p:spPr>
          <a:xfrm>
            <a:off x="2797200" y="256536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mè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ｉ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62" name="文本框 10244"/>
          <p:cNvSpPr/>
          <p:nvPr/>
        </p:nvSpPr>
        <p:spPr>
          <a:xfrm>
            <a:off x="5066640" y="2565360"/>
            <a:ext cx="7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s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à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63" name="文本框 10245"/>
          <p:cNvSpPr/>
          <p:nvPr/>
        </p:nvSpPr>
        <p:spPr>
          <a:xfrm>
            <a:off x="7477920" y="256536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ó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64" name="文本框 10246"/>
          <p:cNvSpPr/>
          <p:nvPr/>
        </p:nvSpPr>
        <p:spPr>
          <a:xfrm>
            <a:off x="2077200" y="31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ｎ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à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65" name="文本框 10247"/>
          <p:cNvSpPr/>
          <p:nvPr/>
        </p:nvSpPr>
        <p:spPr>
          <a:xfrm>
            <a:off x="5003640" y="3213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z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u ì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66" name="文本框 10248"/>
          <p:cNvSpPr/>
          <p:nvPr/>
        </p:nvSpPr>
        <p:spPr>
          <a:xfrm>
            <a:off x="7477200" y="314172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ｊ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ì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云形标注 11265"/>
          <p:cNvSpPr/>
          <p:nvPr/>
        </p:nvSpPr>
        <p:spPr>
          <a:xfrm>
            <a:off x="0" y="0"/>
            <a:ext cx="2514600" cy="1600200"/>
          </a:xfrm>
          <a:prstGeom prst="cloudCallout">
            <a:avLst>
              <a:gd name="adj1" fmla="val 759"/>
              <a:gd name="adj2" fmla="val 57638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568" name="图片 11266" descr="main"/>
          <p:cNvPicPr/>
          <p:nvPr/>
        </p:nvPicPr>
        <p:blipFill>
          <a:blip r:embed="rId2"/>
          <a:stretch/>
        </p:blipFill>
        <p:spPr>
          <a:xfrm>
            <a:off x="5562720" y="4362480"/>
            <a:ext cx="3581280" cy="2495520"/>
          </a:xfrm>
          <a:prstGeom prst="rect">
            <a:avLst/>
          </a:prstGeom>
          <a:ln w="0">
            <a:noFill/>
          </a:ln>
        </p:spPr>
      </p:pic>
      <p:sp>
        <p:nvSpPr>
          <p:cNvPr id="569" name="文本框 11267"/>
          <p:cNvSpPr/>
          <p:nvPr/>
        </p:nvSpPr>
        <p:spPr>
          <a:xfrm>
            <a:off x="22860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Times New Roman"/>
                <a:ea typeface="宋体"/>
              </a:rPr>
              <a:t>             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0" name="文本框 11268"/>
          <p:cNvSpPr/>
          <p:nvPr/>
        </p:nvSpPr>
        <p:spPr>
          <a:xfrm>
            <a:off x="755640" y="2133720"/>
            <a:ext cx="7812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朗读课文，思考巴金描写了几次欣赏繁星美景？这几次描写的内在顺序是什么？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1" name="文本框 11269"/>
          <p:cNvSpPr/>
          <p:nvPr/>
        </p:nvSpPr>
        <p:spPr>
          <a:xfrm>
            <a:off x="304920" y="457200"/>
            <a:ext cx="26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整体感知：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2" name="文本框 11270"/>
          <p:cNvSpPr/>
          <p:nvPr/>
        </p:nvSpPr>
        <p:spPr>
          <a:xfrm>
            <a:off x="684360" y="4005360"/>
            <a:ext cx="61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三次       时间顺序</a:t>
            </a:r>
            <a:endParaRPr b="0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文本框 12289"/>
          <p:cNvSpPr/>
          <p:nvPr/>
        </p:nvSpPr>
        <p:spPr>
          <a:xfrm>
            <a:off x="457200" y="5335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讨论学习</a:t>
            </a:r>
            <a:endParaRPr b="0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4" name="文本框 12290"/>
          <p:cNvSpPr/>
          <p:nvPr/>
        </p:nvSpPr>
        <p:spPr>
          <a:xfrm>
            <a:off x="0" y="1557360"/>
            <a:ext cx="90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Times New Roman"/>
                <a:ea typeface="黑体"/>
              </a:rPr>
              <a:t>细读课文，找出文中三次看星的时间、地点、感受的词句。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228600" y="2276640"/>
          <a:ext cx="8915400" cy="3933720"/>
        </p:xfrm>
        <a:graphic>
          <a:graphicData uri="http://schemas.openxmlformats.org/drawingml/2006/table">
            <a:tbl>
              <a:tblPr/>
              <a:tblGrid>
                <a:gridCol w="914400"/>
                <a:gridCol w="1371600"/>
                <a:gridCol w="1295280"/>
                <a:gridCol w="53341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时 间</a:t>
                      </a: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地  点</a:t>
                      </a: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感        受</a:t>
                      </a: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一                    次</a:t>
                      </a:r>
                      <a:endParaRPr b="0" lang="en-US" sz="2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二次</a:t>
                      </a:r>
                      <a:endParaRPr b="0" lang="en-US" sz="2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三次</a:t>
                      </a:r>
                      <a:endParaRPr b="0" lang="en-US" sz="2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6" name="文本框 12318"/>
          <p:cNvSpPr/>
          <p:nvPr/>
        </p:nvSpPr>
        <p:spPr>
          <a:xfrm>
            <a:off x="1116000" y="3213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从前七八月的夜晚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7" name="文本框 12319"/>
          <p:cNvSpPr/>
          <p:nvPr/>
        </p:nvSpPr>
        <p:spPr>
          <a:xfrm>
            <a:off x="1116000" y="429264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年前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8" name="文本框 12320"/>
          <p:cNvSpPr/>
          <p:nvPr/>
        </p:nvSpPr>
        <p:spPr>
          <a:xfrm>
            <a:off x="1258920" y="52293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 今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9" name="文本框 12321"/>
          <p:cNvSpPr/>
          <p:nvPr/>
        </p:nvSpPr>
        <p:spPr>
          <a:xfrm>
            <a:off x="2484360" y="32846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家乡庭院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0" name="文本框 12322"/>
          <p:cNvSpPr/>
          <p:nvPr/>
        </p:nvSpPr>
        <p:spPr>
          <a:xfrm>
            <a:off x="2411280" y="42926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南京菜园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1" name="文本框 12323"/>
          <p:cNvSpPr/>
          <p:nvPr/>
        </p:nvSpPr>
        <p:spPr>
          <a:xfrm>
            <a:off x="2700360" y="53006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海  上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2" name="文本框 12324"/>
          <p:cNvSpPr/>
          <p:nvPr/>
        </p:nvSpPr>
        <p:spPr>
          <a:xfrm>
            <a:off x="3851280" y="3213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望着星天，我就会忘记一切，仿佛回到了母亲的怀里似的。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3" name="文本框 12325"/>
          <p:cNvSpPr/>
          <p:nvPr/>
        </p:nvSpPr>
        <p:spPr>
          <a:xfrm>
            <a:off x="3851280" y="4149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星光在我们的肉眼里虽然微小，然而它使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它们常常在和我谈话一样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4" name="文本框 12326"/>
          <p:cNvSpPr/>
          <p:nvPr/>
        </p:nvSpPr>
        <p:spPr>
          <a:xfrm>
            <a:off x="3851280" y="522936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望着那许多认识的星，我仿佛看见它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现在睡在母亲的怀里了。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000" y="134136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华文行楷"/>
              </a:rPr>
              <a:t>第一次：从前在家乡观星天的情景和感受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08000" y="2637000"/>
            <a:ext cx="5943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  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望着星天，我就会忘记一切，仿佛回到了母亲的怀里似的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这里表达了作者望星天所产生的甜蜜、温馨之感和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隶书"/>
              </a:rPr>
              <a:t>依恋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隶书"/>
              </a:rPr>
              <a:t>之情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图片 13315" descr="童趣观星图"/>
          <p:cNvPicPr/>
          <p:nvPr/>
        </p:nvPicPr>
        <p:blipFill>
          <a:blip r:embed="rId1"/>
          <a:stretch/>
        </p:blipFill>
        <p:spPr>
          <a:xfrm>
            <a:off x="3429000" y="2692440"/>
            <a:ext cx="5715000" cy="4165560"/>
          </a:xfrm>
          <a:prstGeom prst="rect">
            <a:avLst/>
          </a:prstGeom>
          <a:ln w="0">
            <a:noFill/>
          </a:ln>
        </p:spPr>
      </p:pic>
      <p:sp>
        <p:nvSpPr>
          <p:cNvPr id="588" name="文本框 13316"/>
          <p:cNvSpPr/>
          <p:nvPr/>
        </p:nvSpPr>
        <p:spPr>
          <a:xfrm>
            <a:off x="252360" y="11736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情感探究</a:t>
            </a: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03:43:44Z</dcterms:created>
  <dc:creator/>
  <dc:description/>
  <dc:language>en-US</dc:language>
  <cp:lastModifiedBy>万润仪器贸易公司</cp:lastModifiedBy>
  <dcterms:modified xsi:type="dcterms:W3CDTF">2020-08-24T03:34:24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